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2D0-81AE-463E-A450-1886BC26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42A-17D9-4BC3-BBC9-AB8F14F7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5BB3-4A48-44D4-9DA8-B4D95AB1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3F6-1D62-4D06-9F3E-4B0B5C73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358-8033-4587-BAFB-87B4B08F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5628-7819-4526-B41A-72AACBA1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925-FEF1-48CF-961A-C51A59B3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67C-A1B9-49BF-8E8D-C51B7DD6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D462-D4C5-48F6-93C4-AB2AFDC2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430-A051-492F-9A30-CCC068CC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CCA-C06E-4785-A84F-8F78CD3C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140-1C05-4ABF-B48E-D00D14D1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9193-A1D5-4C34-8A0E-F4170A806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311560" y="838080"/>
            <a:ext cx="8534160" cy="4953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>
            <a:off x="6334200" y="6477840"/>
            <a:ext cx="268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73120" y="6705720"/>
            <a:ext cx="931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y tuned for the next session where we will expl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chart bui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urce libr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methean web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8:11:51Z</dcterms:created>
  <dc:creator>margaret.lindler</dc:creator>
  <dc:description/>
  <dc:language>en-US</dc:language>
  <cp:lastModifiedBy>margaret.lindler</cp:lastModifiedBy>
  <dcterms:modified xsi:type="dcterms:W3CDTF">2008-07-24T18:22:42Z</dcterms:modified>
  <cp:revision>2</cp:revision>
  <dc:subject/>
  <dc:title>Slide 1</dc:title>
</cp:coreProperties>
</file>